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2DF6-AD91-479F-A307-4D6C2AE41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7AB1-D6E9-4821-A925-DCF59E3B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125C-F9B6-44DF-8185-6C807C814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48FC-9ED9-47F2-9700-CF4C37BAD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3301-7202-4E56-AEBF-32016A94C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C053-A298-4AE4-872B-CC7CDDD1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A658-4350-48A1-A671-224D4E6C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457C-1D57-4E4F-B6A8-E6D15020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5A15-5C66-44E1-AA84-372EC575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6C67-6CCA-4CD9-ABE3-4ACED492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60D0-507A-41C3-BD85-72BA6D61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4B8A-E1F3-4D87-BC29-4BDD2EEA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691C-26A6-4CE5-9900-5F6F64D3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BD3D-9BA1-49B9-A33B-B643EBDF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371B-A9BD-41C4-B70A-D955AA85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392F-FF9A-4908-8C63-C6554251C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50F1-B680-47E5-8E9B-D464D4F03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E26E-ACC1-4E99-AC05-5521193F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541E-F8CC-402C-8D72-62204572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8F6E-02E2-4A4E-9A4E-D94DE5FB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FC81-EE12-47DF-A4C0-1C1EABFB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A9B8-30C7-47EA-A677-DE6C148B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EE3B-1BB8-4061-8772-9CF2427A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E1D0-E692-4F63-B572-A0D3AB9A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0B1C-81CA-4EC7-AC2C-6BEEE3D83C50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178D-EF3F-46B5-AE9F-E53D91441E38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K – 5 </a:t>
            </a:r>
            <a:br>
              <a:rPr sz="4000"/>
            </a:b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PSM/RtI Seminar</a:t>
            </a:r>
            <a:br>
              <a:rPr sz="4000"/>
            </a:b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November 8, 2010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Intensity and Nature of Instruction Resembles Specially Designed Instruction</a:t>
            </a: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ssues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How are Changes for 2010-11 Affecting the Process?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Goal-Setting: When and why would it be appropriate to use:</a:t>
            </a:r>
            <a:br>
              <a:rPr sz="4000"/>
            </a:b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HCS Growth Rate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HCS Accelerated Growth Rate (X 1.5 or 2.0)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ell-Below Proficiency Standard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roficiency Standard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Others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Decision-Making Rules: What factors are involved?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en to make an intervention change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en to reconsider hypothesis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en to change to goal and aimline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Times New Roman"/>
              </a:rPr>
              <a:t>Electronic Graphing vs. Paper: Does the type of graph affect decision-making?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y or why not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f yes, what solutions can we find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Changes to Hypotheses/Intervention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Academic Entitlement Criteri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omparison with Peer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ell Below Proficient Standar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Growth Rate Issu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tudent growth rate similar to growth rate at Well Below Proficien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16:34:58Z</dcterms:created>
  <dc:creator>Nancy Kreykenbohm</dc:creator>
  <dc:description/>
  <dc:language>en-US</dc:language>
  <cp:lastModifiedBy>Nancy Kreykenbohm</cp:lastModifiedBy>
  <dcterms:modified xsi:type="dcterms:W3CDTF">2010-11-08T17:41:07Z</dcterms:modified>
  <cp:revision>2</cp:revision>
  <dc:subject/>
  <dc:title>K – 5  PSM/RtI Seminar </dc:title>
</cp:coreProperties>
</file>